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C36F0-4615-46A8-A60A-4E78A5EBF8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45DF3-B755-4A01-995B-4A08EEE37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ental Congress lacked the power to deal with the new nation’s problems, especially the economic iss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4E9CB-559D-4378-ACD8-6A9D6381A2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355E-D4F6-4CDD-87BD-3F2BC4AD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6DD-8E60-4C74-AC9B-DF6B6665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20E4-B68F-48DA-8A4E-29C8A054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DB3-916C-42CB-BD7F-786695A2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CFB-EFB4-48E4-9BFD-2BC85448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FA6-D27F-4D35-B7FB-34566F08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3EF9-A94C-443A-8257-FAACFEAE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32A-BEAE-48E6-9619-3C96334D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6DF-9E5B-404F-8E6E-C41FFB28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02D-2823-4CB3-998E-8C3EB57B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ED9-3DE6-4AB7-86F3-A83BE8FA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CCC-74A9-48A9-91D0-1DEC6BAC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ED6AA-B1FF-41FC-BC0F-AA8EECA73BB1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E813A-854B-4153-8E2A-50ADB480AD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shistory.org/documents/confederation.ht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Government That Faile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2- The Constitu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. 37-4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2655720" y="1212840"/>
            <a:ext cx="363564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arning Objectiv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lain how the weaknesses of the Articles of Confederation laid the groundwork for the Constitu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Articles of Confedera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constitution of the U.S., which established a government dominated by the stat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oup Task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d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tex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of the Articles of Confederation and summarize each article. Share with your group. Analyze the weaknesses of the Article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– V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 – VII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X – 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XI-XII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Articles of Confeder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tablished a national unicameral legisl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ch state had one vot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wer to maintain army and nav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 power to lay or collect tax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 power to regulate trad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 president nor national court syste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quired unanimous vote to ame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nges in the Stat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democracy and libert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anded political participation increased the power of a new middle clas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creased power of the elite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conomic Turmoil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war Economic Depress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small farms faced foreclosur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wmakers sympathetic to deb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states print worthless mone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Macintosh HD:Users:madisonk:Desktop:Shays Rebellion.mo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hay’s Rebell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3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ared Economic Eli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took the law into their own han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olated property rights of other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2433600" y="3479760"/>
            <a:ext cx="39895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22:24:45Z</dcterms:created>
  <dc:creator>Katie Madison</dc:creator>
  <dc:description/>
  <dc:language>en-US</dc:language>
  <cp:lastModifiedBy>Katie Madison</cp:lastModifiedBy>
  <dcterms:modified xsi:type="dcterms:W3CDTF">2010-08-31T14:22:00Z</dcterms:modified>
  <cp:revision>3</cp:revision>
  <dc:subject/>
  <dc:title>The Government That Failed</dc:title>
</cp:coreProperties>
</file>